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2FF-32ED-4CA3-A951-92C473E8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F32-E478-40DB-98FD-BDC94D9D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24C-C535-4527-9BB0-A2F3559B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435-AF4C-49D5-9A69-8441F106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A72D-BCCB-4614-9B98-41DE4C76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F0D8-9550-485A-999F-496F8890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346D-B52D-4DCE-9C3E-1AEDF63E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CA1A-1CE5-4649-8B54-2C3002D0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9E48-15EE-48E3-8D6E-215147BC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7D13-8452-458A-947A-67E18C1F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CE3F-3793-43BC-A69F-56B413E8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F131-FA1A-40D3-9E4F-1419D1F2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D11D-1BA6-4ACC-8045-96FB6576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2C2C-36E0-40C1-BE35-71711D4D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4515-8F01-4051-8CCF-832E326F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1859-6267-43DF-9B8F-81DA559C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AF17-B726-462F-8100-D70810B6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4DF-DE16-43C5-A652-6ACE43FB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3FD0-6647-4BB5-963A-6EB3C50B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815-26E6-4966-9E6D-0F2B749B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111-1B96-46C9-B489-9E9F9C37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B27-1DFE-439E-A24F-92AB4468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80BE-AB3D-4DD8-BCDA-17E2CEB5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B06-1332-4C36-9D7D-03BC9B8F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568B-ADD1-458B-B14D-20766A14B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D1D6-7E37-453D-9044-0A2DF154D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752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ee320c"/>
                </a:solidFill>
                <a:latin typeface="Times New Roman"/>
              </a:rPr>
              <a:t>Мемлекеттік метрологиялық бақылау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ағымсыз әсер етулердің деңгейі мен уақытына (шу, радиациялық және электромагниттік с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улелену деңгейін, топыраққа қысым түсірудің жіберілетін нормаларына, шекті жіберілетін зиянды заттар мен олардың концентрациясының мөлшеріне);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өнімді дайындау кезінде пайдаланылатын материалдарға (химиялық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мы бойынша шектеулер, зиянды 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е қауіпті заттардың жіберілетін деңгейін шектеу, т.б.);</a:t>
            </a:r>
            <a:br>
              <a:rPr sz="4000"/>
            </a:b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өнімді пайдалану, оған көрсетілетін техникалық қызмет пен жөндеу ережелеріне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Жоғарыда айтылғандардың негізінде мынадай қорытынды жасауға болады: сериялы өндіріске арналған өлшемдердің барлық аялары үшін түрін бекіту мақсаты-мен сынақ жүргізу қажет. Сондай-ақ, өндіруші кәсіпорынға өзінің өндірген өлшем қ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ралдарының қай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а пайдаланылатыны белгісіз екенін ескеру керек. Ол өлшем қ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ралдары мемлекеттік метрологиялық бақылау таралатын аяда қолданылмауы да мүмкін. Осыған байланысты өндіруші-кәсіпорындар алғашқы салыстырып тексеруді өткізгені д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рыс болады.</a:t>
            </a:r>
            <a:endParaRPr b="1" lang="en-US" sz="3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Өлшем </a:t>
            </a:r>
            <a:r>
              <a:rPr b="1" lang="kk-KZ" sz="4000" spc="-1" strike="noStrike">
                <a:solidFill>
                  <a:srgbClr val="ee320c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ралының т</a:t>
            </a:r>
            <a:r>
              <a:rPr b="1" lang="kk-KZ" sz="4000" spc="-1" strike="noStrike">
                <a:solidFill>
                  <a:srgbClr val="ee320c"/>
                </a:solidFill>
                <a:latin typeface="Times New Roman"/>
              </a:rPr>
              <a:t>ү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рін бекіту</a:t>
            </a:r>
            <a:r>
              <a:rPr b="1" i="1" lang="ru-RU" sz="4000" spc="-1" strike="noStrike">
                <a:solidFill>
                  <a:srgbClr val="ee320c"/>
                </a:solidFill>
                <a:latin typeface="Times New Roman"/>
              </a:rPr>
              <a:t>.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ының түрін бекіту елде өлшем бірлігін және өндіріске жеткізілуін қамтамасыз ету және нормативтік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аттарда белгіленген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алаптарға сәйкес келетін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 айналысқа шығару мақсатында жүргізіледі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Көптеп өндіруге немесе ҚР-ның аумағына партиялармен әкелуге арналған мен мемлекеттік метрологиялық қадағалау қолданылатын өлшем қ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рал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ары сынақтан өткізіліп, осы өлшем қ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ралдарының түрі кейіннен бекітілуге тиіс. Өлшем қ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ралдарының түрін бекіту туралы шешімді ҚР 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Техникалық реттеу және метрология (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Мемстандарты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 қабылдайды және ол өлшем қ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ралдарының түрін бекіту туралы сертификатпен куәландырылады, сертификаттың қолдану мерзімі оны берген кезде белгіленеді.</a:t>
            </a:r>
            <a:endParaRPr b="1" lang="en-US" sz="3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44440"/>
            <a:ext cx="8839440" cy="63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ың бекітілген түрі өлшем бірлігін қамтамасыз етудің мемлекеттік жүйесі тізіміне енгізіледі. Бірен-саран данада жасалынған немесе әкелінген және мемлекеттік метрологиялық қадағалауға жататын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 мемлекеттік метрологиялық қызмет метрологиялық аттестаттаудан өткізеді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м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а, олардың түрін бекіту мақсатында және бекітілген түрге с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йкестігін анықтау үшін сынақ өткізуді мемлекеттік ғылыми метрологиялық орталық,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техникалық реттеу және метро-логия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жөніндегі уәкілетті мемлекеттік органның ведомстволық бағыныстағы бөлімшелері жән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техникалық реттеу және метрология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жөніндегі уәкілетті мемлекеттік орган өлшем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 сынау орталықтары ретінде тіркелген басқа да заңды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ғалар жүргізеді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44080"/>
            <a:ext cx="883944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үрін бекіту мақсаттары үшін сынақтардан немесе метрологиялық аттестаттаудан өтпеген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 айналымға шығаруға, өткізуге тыйым салынады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ҚР Мемстандарты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ының түрін бекітеді, оны Мемлекеттік реестрде тіркейді және тапсырыс берушіге түрді бекіту туралы сертификат беред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і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63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Салыстырып тексеру.</a:t>
            </a:r>
            <a:r>
              <a:rPr b="1" lang="ru-RU" sz="3600" spc="-1" strike="noStrike">
                <a:solidFill>
                  <a:srgbClr val="ee320c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млекеттік метрология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бақылаудың екінші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мдас бөлігі – өлшем құралдарын салыстырып тексеруді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растырай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ru-RU" sz="3600" spc="-1" strike="noStrike">
                <a:solidFill>
                  <a:srgbClr val="ee320c"/>
                </a:solidFill>
                <a:latin typeface="Times New Roman"/>
              </a:rPr>
              <a:t>Өлшем </a:t>
            </a:r>
            <a:r>
              <a:rPr b="1" lang="kk-KZ" sz="3600" spc="-1" strike="noStrike">
                <a:solidFill>
                  <a:srgbClr val="ee320c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ee320c"/>
                </a:solidFill>
                <a:latin typeface="Times New Roman"/>
              </a:rPr>
              <a:t>ұралдарын салыстырып тексеру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–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ұралдарының белгіленген техникалың талаптарға сөйкестігін ан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ау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 растау мақсатында мемлекеттік метрологиялық қызмет немесе оған уәкілетті басқа органдар орындайтын операциялар жиынтығ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44440"/>
            <a:ext cx="8686800" cy="63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ҚР «Өлшем бірлігін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мтамасыз ету туралы» Заңына сәйкес мемлекеттік метрологиялық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дағалауга жататын өлшем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ұралдары өндірістен және импорт бойынша әкеліну кезінде салыстырылып тексеріледі. Сату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ғ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 және жалға беруге тек салыстырып тексерілген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 ғана жіберіледі.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244080"/>
            <a:ext cx="883944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емлекеттік метрологиял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ба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ылаудың мынадай түрлері белгіленген:</a:t>
            </a:r>
            <a:br>
              <a:rPr sz="4000"/>
            </a:b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өлшем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ың түрін бекіту;</a:t>
            </a:r>
            <a:br>
              <a:rPr sz="4000"/>
            </a:b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өлшем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, соның ішінде эталондарды салыстырып тексеру;</a:t>
            </a:r>
            <a:br>
              <a:rPr sz="4000"/>
            </a:b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өлшем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ірлеу, жөндеу, сату және жалға беру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ығына заңды және жеке т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ғалардың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ызметін лицензиялау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44440"/>
            <a:ext cx="8686800" cy="63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алыстырып тексеруді мемлекеттік метрологиялың қызмет, мемлекеттік ғылыми метрологиял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орталықтар (МҒМО),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іркелген заңды т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ғалардың метрологиялық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ызметтері жүзеге асырад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 салыстырып тексеруді осындай тексерушілер ретінде аттестатталған жеке адамдар жүзеге асырады. Салыстырып тексерудің нәтижесі – өлшем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ның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пайдалануға жарамдылығын растау немесе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ың пайдалануға жарамсыздығын ма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дау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44080"/>
            <a:ext cx="87631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алыстырып тексерудің оң нәтижелері өлшем қ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алына және пайдалану 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жаттамасына басылатын салыстырып тексеру таңбасымен және салыстырып тексеру сертификатымен куәландырылады немесе салыстырып тексеру туралы куәлік беріледі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Егер салыстырып тексеру н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ижелері бойынша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ы пайдалануға жарамсыз деп танылса, онда салыстырып тексеру таңбасы және «Салыстырып тексеру туралы» куәліктің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үші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ойылып, «жарамсызд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уралы»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ат беріледі немесе техникалық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аттамада с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йкес жазулар жазылад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Егер салыстырып тексеру н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ижелері бойынша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ы пайдалануға жарамсыз деп танылса, онда салыстырып тексеру таңбасы және «Салыстырып тексеру туралы» куәліктің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үші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ойылып, «жарамсызд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уралы»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ат беріледі немесе техникалық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аттамада с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йкес жазулар жазылад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Қазақстанда салыстырып тексерудің мынадай түрлері қолданылады: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- алғаш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ы;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- мерзімді;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- кезектен тыс;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- инспекциялық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- сарапшылы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Алғашқы салыстырып тексеруге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Қазақстанда өндірі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ген немесе жөнделген, импортпен алып келінген (ҚР Мемстандарты мен өзге елдердің метрология бойынша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ттық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йымдары арасында салыстырып тексеру нәтижелерін өзара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ойындау туралы келісімшартқа с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йкес жағдайлардан басқа) түрі тексерілген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 жатады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Дара өндірістегі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ың түрін бекіткен кезде олардың әр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йсысына түрін бекіту туралы сертификат беріледі, ал алғаш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ы салыстырып тексеруді б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 өлшем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 іске асырмайд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Мерзімді салыстырып тексеруге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пайдал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удағы немесе сақталудағы өлшем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 жатады. М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дай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дың тізімін мемлекеттік метрологиял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 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дағалаудың қызмет ету аясын ескере отырып, б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ұралдардың иелері жасайды. Салыстырып тексеру аралық интервалдар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лданыстағы заңдыл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ережелер негізінде белгіленеді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Өндірілген немесе жөнделген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, оларды техникал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бақылау бөлімі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былдағаннан кейін, алғаш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ы салыстырып тексеруге жіберілуі керек.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сақталуда т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тын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 мерзімді салыстырып тексеруден өткізбеуге болады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846144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емлекеттік метрологиялы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ба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ылау мен 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дағалау (ММБмҚ) Заңмен белгіленген аяларда жүзеге асырылады. Сонды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ан жасалынатын, өндірілетін, импортталатын ж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е пайдаланудағы өлшем 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алдары екі топ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 бөлінеді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л туралы шешімді заңды түлғаның бас метрологы қабылдайды. Салыс-тырып тексеруге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-рының тек өлшем пайдаланылатын аумақтағы сипаттамалары жатады. Б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 жағдайда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да олардың қолдану аясын көрсететін анық жазу немесе шартты белгі болу керек. С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йкес жазулар пайдалану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аттарында жазылуы керек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Кезектен тыс салыстырып тексеру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келесі жағдайларда өлшем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 пайдалану кезінде жасалынады:</a:t>
            </a:r>
            <a:br>
              <a:rPr sz="4000"/>
            </a:b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алыстырып тексеру таңбасы бүлінген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е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және са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ыстырып тексеру туралы куәлік жоғалғанда;</a:t>
            </a:r>
            <a:br>
              <a:rPr sz="4000"/>
            </a:b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а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уа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ыт сақталғаннан кейін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 пайдалануға енгізгенде;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м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на соққымен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ер етуден кейін немесе аспаптың қанағаттанарлықсыз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ыс істеуі кезінд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йтадан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лпына келтіру кезінде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;</a:t>
            </a:r>
            <a:br>
              <a:rPr sz="3600"/>
            </a:b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жарты салыстырьш тексеруаралық интервалға тең мерзім өткенде өткізілмеген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ынушыға сатқанда;</a:t>
            </a:r>
            <a:br>
              <a:rPr sz="3600"/>
            </a:b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жарты салыстырып тексеруаралық интервалға тең мерзім өткеннен кейін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ма (қосал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 бөлшек) ретінде пайдаланғанд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320c"/>
                </a:solidFill>
                <a:latin typeface="Times New Roman"/>
              </a:rPr>
              <a:t>Инспекциялы</a:t>
            </a:r>
            <a:r>
              <a:rPr b="1" lang="kk-KZ" sz="3600" spc="-1" strike="noStrike">
                <a:solidFill>
                  <a:srgbClr val="ee320c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ee320c"/>
                </a:solidFill>
                <a:latin typeface="Times New Roman"/>
              </a:rPr>
              <a:t> салыстырып тексеру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мемлекеттік метрология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 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дағалау жүргізілген кезде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ың пайдалануға жарамдылығын ан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ау үшін жасалады.</a:t>
            </a:r>
            <a:br>
              <a:rPr sz="3600"/>
            </a:br>
            <a:r>
              <a:rPr b="1" lang="ru-RU" sz="3600" spc="-1" strike="noStrike">
                <a:solidFill>
                  <a:srgbClr val="ee320c"/>
                </a:solidFill>
                <a:latin typeface="Times New Roman"/>
              </a:rPr>
              <a:t>Сарапшылық салыстырып тексеруді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метрологиялық сипаттамалар, өлшем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ың д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ыстығы мен олардың пайдалануға жарамдылығы бойынша қайшылықты м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елелер туындағанда жүргізеді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320c"/>
                </a:solidFill>
                <a:latin typeface="Times New Roman"/>
              </a:rPr>
              <a:t>Лицензиялау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м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 өндіру, сату және жалға беру бойынша жеке және заңды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ғалардың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зметін лидензиялау - мемлекеттік метрология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бақылаудың үшінші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мдас бөлігі. </a:t>
            </a:r>
            <a:r>
              <a:rPr b="1" lang="ru-RU" sz="3600" spc="-1" strike="noStrike">
                <a:solidFill>
                  <a:srgbClr val="ee320c"/>
                </a:solidFill>
                <a:latin typeface="Times New Roman"/>
              </a:rPr>
              <a:t>Лицензиялау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деп міндетті лицензиялауға жататын және заңмен тыйым салынбайтын қызметпен айналысуға заңды және жеке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ғаға лицензия берудің міндетті түрде жасалынатын тәртібі аталад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Қарастырылып отырған жағдайда л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иц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ензия - Мемлекеттік метрологиялық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ызметтің өлшем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 өндіру, жөндеу, сату және жалға беру бойынша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ызметті жүзеге асыру үшін заңды және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 жеке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ғаларға беретін р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қсаты. Лицензия ҚР бүкіл территориясында жарамды болып табылад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цензия мына жағдайларда берілмеуі мүмкін: өтінішке қосылған 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жаттарда а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арат толық емес болғанда, лицензияланатын қызметтің жүзеге асыру шарттары талаптарға сәйкес келмесе, алдыңғы лицензия жойылғаннан кейін белгіленген мерзім өтіп кеткенде. Лицензия 5 жылдан көп емес уақытқа беріледі. Лицензия берген орган өзі орнатқан лицензияланатын 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ызметтің шарттарының са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алуын үнемі бақылап отыруы міндетті. Б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ушылық анықталған жағдайда ол б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ушылық жойылғанға дейін лицензия қызметін тоқтатуы немесе мүлдем лицензияны алып қоюы мүмкін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 пайдалануға арналған және ММБмҚ-дың таралу аясында пайдаланылатын. Б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 оларды сынағаннан және түрін бекіткеннен кейін пайдалану үшін және кейінгі, алғаш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 және мерзімді салыстырып тексеруге жарамды деп танылады;</a:t>
            </a:r>
            <a:br>
              <a:rPr sz="3600"/>
            </a:b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айдалануға арналмаған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 ММБмҚ-дың таралу аясында пайдаланылмайтын. Б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а мемлекет тарапынан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дағалау жүргізілмейді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ңды және жеке т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ғалар - осындай өлшем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ың иелері, оларды жарамды күйде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тау жүйесін өздері орнату керек. Б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 жайт өлшеу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ың сериялы және дара шығаруға парктың бөлінуінің жойылуын білдіреді. Егер дара шығарылатын өлшем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 ММБмҚ аясында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лданылатын болса, онда олар сыналады және түрі бекітіледі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алыстырып тексеру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ығына тіркеу ретінде заңды т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ғалардың метрологиял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 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ызметтерін өлшем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 салыстырып тексеру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ығына аккредиттеу орындалады. ММБмҚ-дың таралу аясын талдау көрсетіп отырғандай, өлшем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ың бүкіл паркін көрсетілген екі топ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 на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ы бөлу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иын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ММБмҚ мынадай аяда таралады:</a:t>
            </a:r>
            <a:br>
              <a:rPr sz="3400"/>
            </a:b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денсаулы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 са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тау, ңоршаған ортаны 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орғау, еңбек 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ауіпсіздігін са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тау;</a:t>
            </a:r>
            <a:br>
              <a:rPr sz="3400"/>
            </a:b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сауда операциялары ж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не 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ө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зара есеп айырысу; </a:t>
            </a:r>
            <a:br>
              <a:rPr sz="3400"/>
            </a:b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мемлекеттік 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орғанысты 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амтамасыз ету;</a:t>
            </a:r>
            <a:br>
              <a:rPr sz="3400"/>
            </a:b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ҚР заңдылы</a:t>
            </a: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тарына сәйкес мемлекеттік қажеттіліктер үшін келісімшарттар бойынша жеткізілетін өнімді өндіру;</a:t>
            </a:r>
            <a:br>
              <a:rPr sz="3400"/>
            </a:br>
            <a:r>
              <a:rPr b="1" lang="kk-KZ" sz="3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ҚР мемлекеттік стандартының міндетті талаптарына сәйкестігін анықтау мақсатында өнім сапасын бақылау және сынау.</a:t>
            </a:r>
            <a:endParaRPr b="1" lang="en-US" sz="3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63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ҚР «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Техникалық реттеу туралы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» Заңына сәйкес міндетті болып мына мемлекеттік стандарттар талаптары табылады: өнімнің, жұмыстың және қызметтің сыртқы орта, азаматтардың өмірі, денсаулығы мен мүлкі үшін қауіпсіздігін қамтамасыз ету бойынша; техникалық және ақпараттық сәйкестелуін, өнімнің өзара алмастырылуын, оларды бақылау мен маркілеу әдістерінің бірлігін қамтамасыз ету үшін, сондай-ақ ҚР Заңдарымен белгіленген талаптар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244440"/>
            <a:ext cx="8763120" cy="64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сыган байланысты мына талаптарға сәйкес келуді бақылау үшін пайдаланылатын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 салыстырылып тексерілуі керек:</a:t>
            </a:r>
            <a:br>
              <a:rPr sz="4000"/>
            </a:b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қорғаныс қондырғыларына, балалар ойыншықтары, киімдері мен аяқ киімдері сипаттамаларына;</a:t>
            </a:r>
            <a:br>
              <a:rPr sz="4000"/>
            </a:b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йым элементтері сипаттамаларының беріктігіне;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6-07T04:30:0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